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14E5-F192-41AB-9DDB-9C9167A3A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643E-2B20-424D-AB69-28938776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FC09-4611-4CBD-BB27-9814B00D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21BF-9D2D-4843-A10D-A3C25ED6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E980-A5F1-40FE-8CAC-05A8A1542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37A8-6ADE-43DA-AF45-101ED73C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8615-EB8E-4185-B0B7-2916900F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4485-8387-4807-A982-EDBBB13D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6C14-8A36-4251-ABD1-855B574E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A241-5001-4DB0-B0D4-A99D4ECA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74AE-A570-4E90-89B4-382BF6D2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B781-1EE6-4A0E-9F6D-B1959C56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B953-B801-44DC-BDC0-E8723996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8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C99F-E8DC-4E5B-9C94-632CD89DD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8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hhhh their shooting free throw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Steven Hinsh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8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se noise affect free throw presti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8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think that silence will get your nerves u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th noise you are just like shooting normal in a ga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8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1828800"/>
          <a:ext cx="9829800" cy="295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829800" cy="29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8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981080"/>
          <a:ext cx="9144000" cy="182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91440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8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lence kept free throw percentages higher than with noi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8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s are that noise decrees the free throw percen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ome people it increased the percentage of free throws, but for the most part it increased the free throw percenta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14:22:38Z</dcterms:created>
  <dc:creator>STERLING  USD376</dc:creator>
  <dc:description/>
  <dc:language>en-US</dc:language>
  <cp:lastModifiedBy>USD376</cp:lastModifiedBy>
  <dcterms:modified xsi:type="dcterms:W3CDTF">2011-03-28T19:46:35Z</dcterms:modified>
  <cp:revision>1</cp:revision>
  <dc:subject/>
  <dc:title>Shhhhh their shooting free throws </dc:title>
</cp:coreProperties>
</file>